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DF01-6000-4632-BAED-9FE9EC1DD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4CF7-6DEB-4625-BFDA-3382E425B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BCF0-C28A-4FE2-BB39-F9B77880E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classconnection.s3.amazonaws.com/558/flashcards/183558/jpg/picture2132932371366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1F76-69D7-467C-A983-1CCF5C237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465F-EAE6-4D8B-8D09-B1D418A7A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7A32-1DF1-4A8D-97EA-AC41B76FA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thodsofhealing.com/the-advantages-and-disadvantages-of-clo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8A65-03A5-4F1B-810B-E1ABEBFCC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aniwalker.com/stop-aging-now-telomere-supplem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1139-ADAA-4B1F-8A00-BE4CD924D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.siselinternational.com/?p=15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E8AC-1DC1-452A-A406-09FF2302A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60FC-3DD4-454B-BD87-D4D56B269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1/chrom_struct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istones have +ve charge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B2B2-9BD0-4A71-A8F0-82495901D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2AC0-18EF-4579-9D07-43A2E3E7A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ome.planet.nl/~gkorthof/korthof59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imation: https://www.youtube.com/watch?v=xl8ply4A7n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BBC5-6BB8-4A55-9EFA-8741E7C74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7E34-6131-415D-9D85-E1A9A3693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E3A1-C5E1-4669-9F7A-419341957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pnews.in/health/physical-activity-may-prevent-stress-telomeres-2116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9FA5-0FD7-41CA-8F49-AE61F7191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1EF-FB79-44AC-B962-73E4F968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6EBC-049D-4C00-92C0-EA3E32BC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ACBC-76A7-4696-BFF0-23CA7C2A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3E22-ABDE-4582-8E3A-25EC04F5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E5A-627E-461B-BD21-2A367F79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2B3-8E70-4E8D-82B4-450783A4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172F-95A6-4DAC-95C4-E2C252FD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544-CDFF-4CA2-8CCD-D85610E1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9BE4-2359-447F-93EF-EA228DD6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FE7-8388-405A-AFC6-2CDDDE71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BED6-C110-4BBD-A5D8-16FD7600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7F3-7435-4C2D-BE5A-928F2168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E3B4-4E10-4E93-9CC7-A979EC270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xl8ply4A7n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 Short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replication, the 5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imer on each strand is removed but not replaced with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omeres shorten after each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many replications, telomeres will eventually disappear, allowing coding DNA to be dam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5" descr="picture21329323713661.jpg"/>
          <p:cNvPicPr/>
          <p:nvPr/>
        </p:nvPicPr>
        <p:blipFill>
          <a:blip r:embed="rId1"/>
          <a:srcRect l="-24010" t="0" r="-24010" b="0"/>
          <a:stretch/>
        </p:blipFill>
        <p:spPr>
          <a:xfrm>
            <a:off x="395280" y="404640"/>
            <a:ext cx="8280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en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in a cell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lifespan when it loses the ability to divide &amp;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yflick lim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otal number of times a normal cell can divide (about 50 in hum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dolly"/>
          <p:cNvPicPr/>
          <p:nvPr/>
        </p:nvPicPr>
        <p:blipFill>
          <a:blip r:embed="rId1"/>
          <a:stretch/>
        </p:blipFill>
        <p:spPr>
          <a:xfrm>
            <a:off x="3008160" y="1981080"/>
            <a:ext cx="312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 that adds more DNA to shortening telom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in germ line cells, stem cells, certain white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 cells produce large quantity of telo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anti-aging-for-skin"/>
          <p:cNvPicPr/>
          <p:nvPr/>
        </p:nvPicPr>
        <p:blipFill>
          <a:blip r:embed="rId1"/>
          <a:stretch/>
        </p:blipFill>
        <p:spPr>
          <a:xfrm>
            <a:off x="2246400" y="1981080"/>
            <a:ext cx="465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i Walker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Aging Now TS-X Telomere Suppleme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TS-X-square1"/>
          <p:cNvPicPr/>
          <p:nvPr/>
        </p:nvPicPr>
        <p:blipFill>
          <a:blip r:embed="rId1"/>
          <a:stretch/>
        </p:blipFill>
        <p:spPr>
          <a:xfrm>
            <a:off x="2517840" y="1981080"/>
            <a:ext cx="410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genome consists of 23 pair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of the DNA was stretched out, it would measure 1.8 metres in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it fit into a typical human cell nucleus, 10 micrometres in dia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coiled around a group of 8 stabilizing protein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hrom1"/>
          <p:cNvPicPr/>
          <p:nvPr/>
        </p:nvPicPr>
        <p:blipFill>
          <a:blip r:embed="rId1"/>
          <a:stretch/>
        </p:blipFill>
        <p:spPr>
          <a:xfrm>
            <a:off x="2666880" y="3733920"/>
            <a:ext cx="4141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enoi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 group of 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iled into chromatin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in fibres fold into final chromatin structure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coi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chromosome_structure"/>
          <p:cNvPicPr/>
          <p:nvPr/>
        </p:nvPicPr>
        <p:blipFill>
          <a:blip r:embed="rId2"/>
          <a:stretch/>
        </p:blipFill>
        <p:spPr>
          <a:xfrm>
            <a:off x="3130560" y="1981080"/>
            <a:ext cx="288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ic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DNA is single circular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coi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so in 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sm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other circular pieces of DNA that can be exchanged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 &amp; 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Telomere_image-prv"/>
          <p:cNvPicPr/>
          <p:nvPr/>
        </p:nvPicPr>
        <p:blipFill>
          <a:blip r:embed="rId1"/>
          <a:stretch/>
        </p:blipFill>
        <p:spPr>
          <a:xfrm>
            <a:off x="1994040" y="1981080"/>
            <a:ext cx="5154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ding, repetitive sequences at the end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 chromosomes from degradation, fusing to other chromosomes, assist in DNA re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4:22:18Z</dcterms:created>
  <dc:creator>rubina khan</dc:creator>
  <dc:description/>
  <dc:language>en-US</dc:language>
  <cp:lastModifiedBy>rubina khan</cp:lastModifiedBy>
  <dcterms:modified xsi:type="dcterms:W3CDTF">2015-11-11T19:40:31Z</dcterms:modified>
  <cp:revision>85</cp:revision>
  <dc:subject/>
  <dc:title>Molecular Genetics</dc:title>
</cp:coreProperties>
</file>